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DD7-6803-4A02-852D-EDEB59AA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F4A-D031-49D5-B355-642B1FF8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31CFAE-7D92-47B0-B76A-A2CC5326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13BB58-99DC-43A9-9628-E4D6EC6E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6C46BF-031C-428B-8333-207E934C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526C87-4433-4A93-84A9-69C303B4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D084A4-424B-4029-972B-91FBE100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D73E51-C4E6-4656-B6CF-FCED6C78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BD3CB1-47E8-48E1-80CA-078625CB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37F681-B278-4EBA-9966-2177BE7C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B7BFCC-2352-4234-A635-54E7F435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914F6-3AF0-4FD5-B4EE-D5DA5FC0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69D-9A5A-4A15-8DED-15B60A61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151DF-DFBD-4D50-B839-DADAA994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F90BA-99DC-4CFA-8315-08A64862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1401F-7684-4FAA-8A60-68DBB1E8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9FF0D-5692-44C3-83DB-E32C6DC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82D05-3987-4160-9383-886C2078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2DB5A-0060-48E7-A12B-EC58F07B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E8049-5567-4AC8-8386-67950E62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1F668-2756-49D2-8454-1405AA0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BFFC1-0585-4A86-803E-1246460E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4D03E-A75A-49C0-9815-7F81031D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F58-5347-4047-915D-CF16A253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BB7ED-2316-4A81-AE44-30D94421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15C4A0-2117-43DA-915F-2CE76EC5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CAFC2B-3D87-418D-A429-7ECBBE02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C04A1B-A688-417E-B57D-AF708AD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D1985B-EDB2-4FB9-B0DD-86120448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59C978-8A67-42AA-B7F7-BB728A59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CCB902-0BF2-4900-9479-4F104685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DEE0C3-B764-4017-A87E-872E45D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B15B85-6173-4A6A-9F25-82BF35C3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8B2BC5-A8DB-4F1B-B877-05018458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9059-0845-4550-93D8-189BA34A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7069C9-40C9-4366-9CFC-A2657254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10164C-24B1-44CF-A843-FEC107D3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5DC805-314C-42A3-95B0-53897679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B28DF-E198-4CD0-B7B2-864204F9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F9A69-6190-41AE-BC4A-DC9BF9B5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FDD43-16C4-434C-A614-19E993C1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D4223-FBDA-40FA-8A53-444785E1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16A7C-3F38-4F81-9DF9-72CFAFDE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DAB36-5775-4D31-9174-D7C29C37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64CA9-2FBE-46F6-A01E-EC22EC7D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12A6-24EA-4048-99FA-815148D7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6827F-1F23-4BF6-8F29-85D8676A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E79C9-3505-4A87-AB47-1D75C3EF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DC970-42BB-455F-9F6D-B956C988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9DD17-2546-4C43-A0F9-540C4F3C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0B9D8-8327-437F-91D1-CDB809BE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85836-1248-4940-B40C-CE595B57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B470F-331E-4320-9DBB-DB29A4FE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7349C-C2AD-492E-9EFB-58245343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19484-7B4B-4F07-838A-0BEBAC38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22F0D-8F9E-4EC9-852A-43AA583B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DC8F-1D76-4AB4-B34A-6DCFF42B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CCCCD-F591-4945-8B95-5268DAF7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B7219-DD68-4D0A-A68E-36D39BC9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E40C0-81BD-439A-88FA-B0E00B5A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52AAF-ACC0-411F-8E77-851588A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3D0DD-27FB-46F8-BE06-B0216649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5A2A9-69BF-406C-A242-530DDCCD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E889B-AE70-4C1B-9D22-EC544320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4574D-540E-4ADC-8FBE-6372AFC2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9D2CB-64E9-40F5-A06F-06DCFB75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D704C-7129-45ED-BF70-4C6180DF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0A70-7BEC-430A-8D1B-3A7BBB43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E921E-AC50-405C-BAEB-32B838FE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28EFB-B884-4859-A0E6-1721E365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A3145-5ECC-4ACB-B38D-5F7AA1DF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5E6D7-30BC-4F44-8DE6-E11052E2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E973B-4C68-4666-9907-FDD72E34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C2182-3AAD-4D8E-A45C-D1F8AD8B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AAE7F-4EEE-42A0-8F3C-BCDF5535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DE58D-40CA-4B03-A8CF-DD747669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8D221-424A-4264-8636-16C5D282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D0CF8-D012-49F7-A5C4-39E57B88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535E-C3F9-427B-B6F4-959D8302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F38F3-C7FB-4B55-87FD-A0E6D0F8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2D6AE-FB4B-4D21-8BAF-929CC6E4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97C12-F460-4806-B67B-E5EE9051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E562C-1BF7-45E5-B48F-3BEF40EF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35EF3E-43DB-4DF4-83A1-5B30D238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A21CA-D5F2-4C17-ADEB-31C6A2CA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B2EA5-6651-4FF0-960A-F3F4B23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E3765-B142-44A3-8375-C2EB9684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0CD07-1949-4DE1-BED9-3CF38D16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FD0B7-F262-4EF2-94A4-9A124378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94AC-58F3-4ECB-B73F-020A174E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3B14E1-6BB9-46D0-A52A-32B284B9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37467B-1FD9-49C3-839F-30E98FE6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B1DB9-39C1-4E25-9A69-06D58DB9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DBFEB-0CB6-4607-BD3F-839B2BB6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A52680-28F8-4263-B9FA-8C8E8721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65BDA9-C2F2-4C0B-9655-E59B427B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86CA4-6E94-49C0-9C32-145D0092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3F77A-1305-4444-8B39-A2462B90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0B354-A525-4E16-9B99-F3DF9F09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661AD-057E-4DC5-A4BB-E02D099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186D-65C2-44BD-A265-CCC988D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072AB-13DD-474A-8876-D1A4F963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5F7C4-ECEF-43F9-B8EE-48A03BD0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449580-AD2F-4CC4-B976-01853293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B5F46-B950-49CE-902C-7A754DCD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0EF771-39C9-4BF0-B610-D4705E8C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6F9C5-E44A-4CCC-A10E-E26C3A31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275FD-8CCD-40B2-ADE5-CEA71272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C227B3-46D4-4C8F-818F-3E842F63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59A04-846F-44C8-ACF9-6B644463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E992E7-9DAE-447E-ADD5-5660AE4A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443-E11A-47E6-A2CA-A597DE0D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0F17-C7AE-47F0-B4EE-4B0CD700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2C4D9-0F36-4E36-940F-53E163CE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97C3A-5E72-46DC-9F5A-AADBB7A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08A9B-2CCF-492E-B150-BB98C91B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CFF3D-8B0E-4B91-9ADE-84060403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0765A-D346-4D3B-BF79-C95C7964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2323D-3A19-4346-9696-5F4C79AB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56193-C95B-41D6-A9B1-66B58FF0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289D15-7207-4B9A-B144-D581D0DF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5C4D5-3DDF-4A08-AFF9-6EB3C5AF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1EF2F6-BF85-4666-A819-399E23BB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D200-B162-4005-B1AD-5DFE7B6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02FEC-50BB-474D-8B0A-D69990F0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6839C2-228B-4EBE-B1BD-AE7FDB7E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F8540-2BB9-4624-98A3-35EF3F1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52E1F-A0E5-4164-8BD3-3CECDF8A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6848E-D090-4374-85FA-F336993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EB707-481C-46D9-B2B9-F32B6084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EE4FF4-98BD-4B4C-A755-B0BAA06C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9FE0-4650-423B-8CBD-0C91AC00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0E20-2D73-40A8-A481-1D0E5E60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FFB8-81B5-434E-8650-F2E0A313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69E0-336D-45C5-B420-C4867157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ABEE-7C30-4D68-88C5-B9251022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91BF4-B7AA-4C39-90D8-E6E29DFE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1AA6-4EB1-49A9-A4F6-1339D349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4AF4-16E1-47FB-8A54-E65A5CE6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233-CD93-4008-8A68-F5B15C2E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91B2-3E4A-4D0C-8874-B16DAA1E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71C80-1DA1-4C3A-BAFA-44E6AADB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8411-F23F-4D7B-BEFC-2A55EB20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EA794-7484-4E92-80F9-78E80634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40A1-21FD-4228-9947-005734A0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B63E-B06A-4B98-9264-23E64496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E0DF-6BC2-4B4D-9BFA-DEDD94F6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2F230-8160-4AE1-8C21-A769722D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EDFE-74B4-4454-81DA-51C3D5F0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B45BE-2842-472D-B419-E7BEB738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8C2-F4E9-496B-85B9-CB6FDC73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6C5AA-0654-4108-BD87-A060A822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E444E-EB5C-4AB9-8E2E-38A63672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7716A-C2D4-4DD6-AB9C-03B0E41A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2B1EF-6C65-4879-8B3F-297385BB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8678-334C-4382-88E3-076258FC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7E33C-A5F0-41EB-BE9F-46BE9B1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93DAB-41FA-4803-B3F0-5A7A0E99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84DA-FB2A-4EF9-B35B-C9C8F366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D4AF-99DB-41CC-BEE7-EF21FB8B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8259E-3C57-476B-B411-586A7725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C43-338F-4126-8658-4837D52F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4808E-AFE9-4ED4-8D87-591F898F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C6C63-4FAB-4120-A7A7-CA0C3A96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CA807-F2B3-4357-BFB2-E54E485A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CE097-93F3-49C5-86CE-3AF8B7B6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4BD5B-76BD-41E4-821C-E77DBBE7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0B6C5-71BD-4FB5-9D49-20442F3A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0E7F5-9A63-4446-8325-91326137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B676C-1907-4C90-9F23-2D45639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A2BA5-4B53-497F-909F-52F8459B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4008-6C54-45BB-B92A-4CA674F5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71E-10E9-41E8-A6EB-3D8A758E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68F71-2251-4A67-9F3C-D0336A06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5FEEB-EE4E-4DD5-BD39-CF738E47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CD910-658F-4D3F-AF3B-990F50AA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1EA16-4EF9-470B-A888-46C5A6A6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09CB-0593-4F97-997A-0ED31628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D46F7-1789-4917-A644-738B289C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28AAE-FAE1-466E-BF61-98BED2C6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C548-7BE0-44B0-B642-FCBAE879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C1502-9A50-457F-9844-E1B22DA8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70017-A0A9-48C1-8EAE-342D681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961-3C95-4768-BB45-E1D1113F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B0813-C980-419F-A630-F070C9E3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9C4EC-F1F9-402A-8699-E0A47D00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63480-EDDA-41CB-AFBF-D8824243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A1A26-1EF7-48F2-90C7-16FAEB7C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307B2-A1F3-4CC8-BA71-59650FC2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0A224-EDC4-4B08-93E5-7F8DCF8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2C0FD-2164-4B0B-BDF3-318B5927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35313-E16D-4FA4-BCFC-D2761359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D5010-7EC1-498E-8E13-5E708945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7E15B-E5A5-44D8-AAF2-73EDD83D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1A0-D1A4-4110-9BD6-1A54935C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59391-A950-4408-A064-25D4741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FAB8C-FE25-4093-99B1-2E278811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23D00-82C6-4F72-8B0F-96E216E8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A9BC4-C85A-4055-857B-52149438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7AB75-FC25-48DF-92E6-52123822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5A1A6A-9C5C-443C-819E-46D2B323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F0D9E-359D-4B6E-83AE-1C87BB34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0888A-529E-469E-A801-06CD1906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E7DCB9-C46B-4927-B548-1DC45752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69BB52-63BB-4C7E-977B-76A44DDE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C81-C4AA-42A8-B6E1-C9817A0D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AB187B-61E5-449E-8396-D5E9A633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61C8C2-CE15-4B66-A122-6D2BF8B1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AE4F63-593D-45CB-BEE4-4A000EAC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F00945-84A4-484E-B8CC-2F22F9FA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DF4F31-9350-45C6-BB6A-405DF65C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BF8311-CD2A-4017-9F1C-96C12575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008A40-893F-4794-9AEE-D59BEE71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B026C9-EABD-4D2A-8A86-5C8968CF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F2E861-D0DB-40C2-AFB1-E5DEAFD8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F12C23-6AC9-49C9-BD00-B82BF63A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33BC-1C32-4DAF-B563-CB57E5EEB7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7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7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4E9B-41EC-4FBD-96B3-3A713E0E0A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2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09D5-510A-4633-A094-024F67A54AE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2C43-58C0-43B8-9F76-FB95A35887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701A-ACAF-4201-ABEB-58C4EE199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1345-7F56-4B8D-9A47-0D1F2ED90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ED9A-E651-4BC4-8301-191181D91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B21A-5A80-4930-934A-9D8B15791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4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4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CCE7-31DA-495C-81B2-B8232FE21D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2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2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6A1F-EA3D-4541-9BC6-0EB734C99C5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77AD-2BF6-4FFC-9565-7CB5C1B0FA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9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0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45F3-9EA4-4984-A40A-86B76E871C1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6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7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8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B0BF-454C-49F9-AF3C-7D041C6E46F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C8F2-7971-47D4-9EAF-230420833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4E0A-78E2-4791-8B0E-606230955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3D86-A339-4362-A4F5-6ED915F6A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BB5F-9405-48FF-8C6C-72893449E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1E2D-EC95-44EB-9AC3-1EF5C4EC8C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2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2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3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9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7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Mansion es lujoso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: Isabella Chrisafidei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 un Jard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bello j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095880" cy="408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a Piscin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piscina es magnifico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/>
          <p:cNvPicPr/>
          <p:nvPr/>
        </p:nvPicPr>
        <p:blipFill>
          <a:blip r:embed="rId2"/>
          <a:stretch/>
        </p:blipFill>
        <p:spPr>
          <a:xfrm>
            <a:off x="5029200" y="22096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w did you like it!!??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pe you liked my sho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ios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casa grande, bonita y magnif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8182080" cy="340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 una coc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 cocina es increi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495324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el bano es b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6096240" cy="41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l cuatr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 cuatro es fabulos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2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comedor es bonito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4647960" cy="3722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a sal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la sala es estupendo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371600" y="2413080"/>
            <a:ext cx="63244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patio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patio es fabulos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2057400" y="2525760"/>
            <a:ext cx="624852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garaje es gran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1676520" y="2544840"/>
            <a:ext cx="57909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10:23Z</dcterms:created>
  <dc:creator>chrisafideisisa</dc:creator>
  <dc:description/>
  <dc:language>en-US</dc:language>
  <cp:lastModifiedBy>chrisafideisisa</cp:lastModifiedBy>
  <dcterms:modified xsi:type="dcterms:W3CDTF">2012-10-26T15:31:34Z</dcterms:modified>
  <cp:revision>11</cp:revision>
  <dc:subject/>
  <dc:title>Mi mansion</dc:title>
</cp:coreProperties>
</file>